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17867"/>
        <c:axId val="28311859"/>
      </c:barChart>
      <c:catAx>
        <c:axId val="77517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11859"/>
        <c:crosses val="autoZero"/>
        <c:auto val="1"/>
        <c:lblAlgn val="ctr"/>
        <c:lblOffset val="100"/>
        <c:noMultiLvlLbl val="0"/>
      </c:catAx>
      <c:valAx>
        <c:axId val="28311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17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15D-43C2-4BA1-BE96-E184FB6D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C41-D11C-4105-86AE-F350DFD7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766-49F9-48B7-92C0-02245693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4C8-3C63-4C02-AC93-177292A8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7EA-B1AE-474F-8355-98559062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8E6-3BDD-41BF-8EDA-7453E706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1B7-0307-407B-A2DB-CD6963E2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CD9-4590-4273-8523-C99BAC2D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327-7D21-433F-8355-C9838D3C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578-B00C-4002-83DB-1C25E876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AB8-58AC-40A3-8506-3A8BE48A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DDC-69C4-402C-AE80-164EB929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13FC6-F042-4AD8-A1D9-60F4195DE9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