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865798"/>
        <c:axId val="57198972"/>
      </c:barChart>
      <c:catAx>
        <c:axId val="618657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98972"/>
        <c:crosses val="autoZero"/>
        <c:auto val="1"/>
        <c:lblAlgn val="ctr"/>
        <c:lblOffset val="100"/>
        <c:noMultiLvlLbl val="0"/>
      </c:catAx>
      <c:valAx>
        <c:axId val="571989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657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4CD2-5AC8-48E7-95F9-2FF44236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CC53-6F1B-410D-A8CC-2E94E8E5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50CB-472D-411C-9B35-8189879C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91BB-3FA8-46A9-A406-171DEF3F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C38E-4AD7-4B05-8EA2-06C2E02C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EE99-C2A4-4589-904C-0322A182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5A84-E883-4048-86F4-0C906EF1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0D99-85CB-4DA8-A8D8-72303D09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6222-47B7-4BCF-8071-8A6705CE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60B6-4D00-4C3D-ACD1-11534246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1767-8851-4AC4-A529-336DFE5C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16F7-E65E-4A45-B6E8-3FB1D451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24433-BFF6-4C99-BB3D-B996BB9A81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