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57481"/>
        <c:axId val="19495108"/>
      </c:barChart>
      <c:catAx>
        <c:axId val="21457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95108"/>
        <c:crosses val="autoZero"/>
        <c:auto val="1"/>
        <c:lblAlgn val="ctr"/>
        <c:lblOffset val="100"/>
        <c:noMultiLvlLbl val="0"/>
      </c:catAx>
      <c:valAx>
        <c:axId val="19495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57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C56-9261-43DD-B46E-F4AF851F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43C-DC66-4141-9003-7B8D9681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D5E-77F3-409C-8265-15580CF6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EA4-A5E0-4295-B9E5-07DC552B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49F-EB16-4135-B67C-ED7770B3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998-6A5D-4679-9109-6AFD4DAC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0D7-5F7B-4C00-922E-5B28A5C8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B0C-CBEA-486B-A0AE-1A4230AB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A45-DE7B-4EFA-877A-2D8E2B41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AA0-6557-47AF-8E47-82F19B1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F6C-22E6-4526-BBB9-6823B6DA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F86-C540-4AC3-9705-1B2B430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D81EF-19AD-4946-B4D7-38274ED609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