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96746"/>
        <c:axId val="91722456"/>
      </c:barChart>
      <c:catAx>
        <c:axId val="82967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722456"/>
        <c:crosses val="autoZero"/>
        <c:auto val="1"/>
        <c:lblAlgn val="ctr"/>
        <c:lblOffset val="100"/>
        <c:noMultiLvlLbl val="0"/>
      </c:catAx>
      <c:valAx>
        <c:axId val="917224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967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97E5-B41A-454D-8A5E-B518985F2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8D4B-110C-404B-ADD6-AADBDC579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62D2-8613-40B0-A461-17E0FA587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0D40-5780-498E-A7DD-444643CE3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A190-C41A-4AC5-8E77-F7F25C6E9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85EE-1512-46D6-8A53-E7B3D3714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5A5F-1EF9-4067-A058-0D5136296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FA56-D8ED-4811-AE68-C09FCEDED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8DE5-4E00-4E8F-97ED-48B46FC2B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99BD-DEBD-48C9-ADEC-959AEBD0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19C3-7234-4376-8DC0-51DC9A01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FF05-74A8-4692-949C-56FF867F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BB4F2F-FDA5-4E9A-87B2-F293D797581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