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131519"/>
        <c:axId val="2710039"/>
      </c:barChart>
      <c:catAx>
        <c:axId val="961315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10039"/>
        <c:crosses val="autoZero"/>
        <c:auto val="1"/>
        <c:lblAlgn val="ctr"/>
        <c:lblOffset val="100"/>
        <c:noMultiLvlLbl val="0"/>
      </c:catAx>
      <c:valAx>
        <c:axId val="27100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1315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96FE-BC28-4A32-A857-D0728DE18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C744-DD10-4066-935E-83C1EF78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B689-C4F5-4559-A56F-A78A45D48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5CBB-40AE-4499-BA2E-55F8158F0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8695-41E6-4AA3-AC86-AF0BB394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98E1-82FC-4905-A48A-56EEDA29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0AAF-E141-4B5E-AF1D-F853BAD4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312B-778D-4F09-A1F0-E2E57E4B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BD15-EB39-44BD-85A5-42F7753D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47F0-1E36-4302-851C-19D63173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8C45-BB32-4685-9791-6226263E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5FBB-71F0-40AA-8016-E39E877C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37553-0B4B-4BAF-BF35-FB5C812977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